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DE8-EF63-4796-BC8A-15D8265B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C4F-DD53-4278-B402-B7D7880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FCF-A301-45C2-B921-5C3D69F9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CD4-900F-46FE-9D67-DD66D6E8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7BC-1647-4E36-9BDF-88AE92B6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E77-B63F-4600-AE82-44CE8D50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8FC-760F-482E-A8F4-57E2C3C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A9F-B7A4-407B-850D-82B54E1F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176-CB43-4FD9-8986-B22BF15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9FD-3D71-40CF-89A4-482FBFE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C3B-BEDE-4D69-8524-87FDAC3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90D-1A17-405A-A600-BDE25E9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AD6-BB14-4198-99C6-6FD3713B51A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7B3-4032-455C-9E2A-E2E835F1804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628640"/>
            <a:ext cx="6681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otal Quality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43440" y="407160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avy Montic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C5A-BA34-4523-9951-53B98C17AC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Appliquer toutes les facettes de la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184720" cy="50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9BB-9D8C-4938-942D-E20C7CA368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obsta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612000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D22-0C3F-4383-8BAF-C329A058B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Comment faire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959280" cy="5045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27640" y="2924280"/>
            <a:ext cx="43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olitique de qualité to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aleurs qui faut respecter: declarer le controle qualit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que personne est responsible de la qualité et de ce qu’il f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4005360"/>
            <a:ext cx="475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Responsaible de service qui vont diffuser le plan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630864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jet pi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F67-E5EE-44B0-AA40-E441E49005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Comité de pilotage ou conseil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896000" cy="50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927-6FDA-4023-AAE0-393F49214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concepts clés de votre polit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535280" cy="334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4356000" cy="341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93080" y="422100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ées retour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3BB-64D8-48D5-852E-23DA81E01F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e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5472000" cy="129672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5"/>
          <p:cNvSpPr/>
          <p:nvPr/>
        </p:nvSpPr>
        <p:spPr>
          <a:xfrm>
            <a:off x="545760" y="3213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G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676600" y="4221000"/>
            <a:ext cx="60721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2771640" y="3933720"/>
            <a:ext cx="1152720" cy="41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EB8-4F92-4531-9F46-1C67CFD0D7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olit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42492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6C8-AE42-4707-9542-5FC76FEA0E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lanification stratég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5327640" cy="498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1700280"/>
            <a:ext cx="316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but de la mission : Zero defauts, être le LEADER des entreprise dans un certain domain,e 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2637000"/>
            <a:ext cx="19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er les delai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passer certains c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651-C8C4-4A0A-9E9A-95D5F92090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emarche de mise en place de TQ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384720" cy="488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70028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ude de 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29264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est ou par rapport à l’objectif initi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797360"/>
            <a:ext cx="39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lan d’action pour eviter le sec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685-58A2-462F-A106-75C51C497F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tude de cas Bois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ntreprise réelle Quebeco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scription des processus, des ressources humaines, des disfonction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bjectif : se mettre à la place d’un consultant qualité p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Faire le diagnostique de l’entre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Proposer une démarche qualité tot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Mission, stratégie, recommandation, échéancier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https://encrypted-tbn3.google.com/images?q=tbn:ANd9GcRoH8lpdsIPP-Q-tSVu3tF9S9sV4GzAKDIROCRB-gxjq0JLziPotg"/>
          <p:cNvPicPr/>
          <p:nvPr/>
        </p:nvPicPr>
        <p:blipFill>
          <a:blip r:embed="rId2"/>
          <a:stretch/>
        </p:blipFill>
        <p:spPr>
          <a:xfrm>
            <a:off x="0" y="404640"/>
            <a:ext cx="1908000" cy="111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ttps://encrypted-tbn0.google.com/images?q=tbn:ANd9GcQJA_uRrMfhlrBkgoSfEh5bIicqM9i8GwVZGouq3hN6JIezRjVHAw"/>
          <p:cNvPicPr/>
          <p:nvPr/>
        </p:nvPicPr>
        <p:blipFill>
          <a:blip r:embed="rId3"/>
          <a:stretch/>
        </p:blipFill>
        <p:spPr>
          <a:xfrm>
            <a:off x="0" y="2421000"/>
            <a:ext cx="194796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s://encrypted-tbn3.google.com/images?q=tbn:ANd9GcSBuUAd_jGTGxUJBM2oMODXg_VB_UZ9vE31FVjzHMtdrs7kitufDw"/>
          <p:cNvPicPr/>
          <p:nvPr/>
        </p:nvPicPr>
        <p:blipFill>
          <a:blip r:embed="rId4"/>
          <a:stretch/>
        </p:blipFill>
        <p:spPr>
          <a:xfrm>
            <a:off x="0" y="4581360"/>
            <a:ext cx="193032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69F-902E-4B54-9C87-86F0A11A62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QSE2 - Dérou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1 : Qualité To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2 : Outils Statistiques pour la Qualité (P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 3 : Normes &amp;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4 : Outils Statistiques pour la Qualité (P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s d’étude :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Bois Tech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Déploiement de votre démarche qualité to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xpérimentation :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atapul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B5B-4BB8-4BED-92D3-F14A5835D7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QSE2 -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Notes de groupe à rendre sur le rapport de l’étude de Cas Bois Tech + Présentation (6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xamen Final (4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3F6-110C-4A21-808A-E509C43BD0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« Construisez votre qualité. Toutes les clés pour une démarche qualité gagnante, 2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édition » P. Longin, H. Denet, Dun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BF7-1D95-4D81-8F05-0580975C6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5972040" cy="201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5832360" cy="117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3564000" y="5732640"/>
            <a:ext cx="5292720" cy="43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01C-1FE1-4102-B44B-54F630D28E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Démar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832360" cy="44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13F-FD79-4117-81CA-1801AC75C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SIX Principes du TQ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468000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2BA-7A04-475F-871C-F0EEB421F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SIX Principes du TQM (sui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82472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804-A816-47FD-AD4C-6D11B3D83B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pièges pour le nouveau responsabl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411280" y="1650960"/>
            <a:ext cx="417672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DFC-C9CC-4CCD-AF87-C22DE0FF6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1:31:06Z</dcterms:created>
  <dc:creator>dmontico</dc:creator>
  <dc:description/>
  <dc:language>en-US</dc:language>
  <cp:lastModifiedBy>simonam</cp:lastModifiedBy>
  <dcterms:modified xsi:type="dcterms:W3CDTF">2013-04-15T11:28:33Z</dcterms:modified>
  <cp:revision>22</cp:revision>
  <dc:subject/>
  <dc:title>PRESENTATION  NAME</dc:title>
</cp:coreProperties>
</file>